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8AF7-48E7-4CD0-A8F9-0C235100D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enos dias esta es mi famil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BFC-D647-4D39-BF46-C33CB51A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BAA-5DE0-43D2-A85A-B2535100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E9B-4C96-4E65-8060-73E73426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992-1081-4EC5-8C84-79571880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545F-ED79-4EEB-B222-3018DEB8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ED16-E071-46EE-9564-251D7856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61C0-A99A-43A1-B72E-E6F97FBB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EC52-9D25-433F-8B4A-FB2CF650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1142-8FDE-45F2-B89D-E2F6039F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DC05-7B4A-4EB6-9523-1A5053C2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CCCC-BE64-4CBE-A7BA-2120DCED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168-975C-4004-AFFB-7552C898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BC37-6988-41DA-B66A-81C93ED8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3F03-EAD5-4AE9-BC84-814FC1A6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0E0B-4E20-4980-8067-B98E3A28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C221-B349-462F-9071-D4850F3F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B0A7-2EFB-4720-8DD6-A61FEC4D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30A-B232-4A40-949D-EF102C3B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F01-5F28-49DB-915C-2979804F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02E-B2B6-40BC-B0BD-A0B74358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692-2B6A-4749-9279-4207AC38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F24-9274-45B0-AE74-6A2D7DCB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BAF-8398-488F-8C05-98123E73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3F6-B5FF-4BA5-B73B-2780D177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D76A-BEC2-4DF3-800E-B8EB04C4DE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F010-F912-4925-A951-5106AB513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  <a:ea typeface="Arial"/>
              </a:rPr>
              <a:t> </a:t>
            </a:r>
            <a:r>
              <a:rPr b="1" lang="en-US" sz="5400" spc="-1" strike="noStrike">
                <a:solidFill>
                  <a:srgbClr val="ffffb7"/>
                </a:solidFill>
                <a:latin typeface="Agency FB"/>
                <a:ea typeface="Arial"/>
              </a:rPr>
              <a:t>El árbol geneològic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briella blackm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-10-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7T07:22:43Z</dcterms:created>
  <dc:creator>bchs</dc:creator>
  <dc:description/>
  <dc:language>en-US</dc:language>
  <cp:lastModifiedBy>bchs</cp:lastModifiedBy>
  <dcterms:modified xsi:type="dcterms:W3CDTF">2003-12-27T07:46:22Z</dcterms:modified>
  <cp:revision>2</cp:revision>
  <dc:subject/>
  <dc:title> El árbol geneològico</dc:title>
</cp:coreProperties>
</file>